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2FC-45CE-4424-9982-0B270AD4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000-6AD5-4AA1-96F3-FEDBB95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B6F-4D48-4179-9E32-B53923F1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3DC-9F57-429D-AF32-E7C95ADB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ACF-658A-4E5C-BC93-651ACE62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F91-6E23-4749-8EB2-17A26F0E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9D2D-B046-438B-AAE0-977C2884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622-3AD5-4028-9149-5E226648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B00-70C6-43B4-BAD8-774198F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65E4-09F6-4214-81DF-5B15009C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5B3D-CC44-48DE-9BAF-D1A32CF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797-4F13-42C0-8F83-9AB7E71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EB34-9E1A-493B-8ABA-AD05686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B988-E15E-4270-96C9-3CD5EBB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3EE-97CA-4809-84DC-CE09126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62E-A81D-4E7B-A530-A60EE774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6548-D56B-4C42-93BC-E4FFB789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285-49C2-46A7-90D6-DE6FD43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3AB-9332-43F7-8A9D-668B36C2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0E5-61AB-4483-9209-4156464C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0B7-4654-4480-B599-08D46BC6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CF5-C6FE-4C1B-AB36-5E394BD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3F6-2CC6-4F4B-B36D-B8E8263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4B5-875F-41CB-92B9-3E7A02A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3D4-78D3-4D83-ADAB-C435FA2BC0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DEE-5965-40DC-B9DC-8C569CF632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american.edu/TED/taliban-poppy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rot="801600">
            <a:off x="4952520" y="228240"/>
            <a:ext cx="4191120" cy="283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fghanist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eaton Alan Easl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N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 rot="19428000">
            <a:off x="-457200" y="228240"/>
            <a:ext cx="4148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27080"/>
            <a:ext cx="8839080" cy="6273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23880" y="64008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p showing opium cul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3048120" cy="2036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ium Poppy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ghanistan is the world’s largest producer of opi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ghanistan made 1 billion dollars at the farm level of processing the opium popp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fits from opium has been used in the up rise of tribal warl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9 an estimated 1.6 million people in Afghanistan participated in opium cultivation, which lowered from 2.4 million in 2008, a 27 percent dro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5943600" y="6491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icture of Opium Popp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ts of the Afghan Wom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066680" y="4027320"/>
            <a:ext cx="2210040" cy="2132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ry 30 minutes, an Afghan woman dies during childbirt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7 percent of Afghan women are illitera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 percent of girls have access to education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n every 3 Afghan women experience physical, psychological or sexual violen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4 years is the average life expectancy rate for women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0 to 80 percent of women face forced marriages in Afghanist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man in Afghan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1.american.edu/TED/taliban-poppy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5:33:15Z</dcterms:created>
  <dc:creator>ws12059</dc:creator>
  <dc:description/>
  <dc:language>en-US</dc:language>
  <cp:lastModifiedBy>ws12059</cp:lastModifiedBy>
  <dcterms:modified xsi:type="dcterms:W3CDTF">2010-05-20T14:03:03Z</dcterms:modified>
  <cp:revision>9</cp:revision>
  <dc:subject/>
  <dc:title>Afghanistan</dc:title>
</cp:coreProperties>
</file>